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B97-49E8-4C2E-B58B-183827FB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50D-DF36-492E-8A9F-3D7A1776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3BD-C6B5-4E50-A5C8-34B8A4BB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625-45F6-4559-8D2A-667D921C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617-AA1D-421E-AD0F-DEB6239A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291-9AF7-4475-8A31-F2FA6B39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94A-65CC-4924-96E1-8372802D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EF3-09D0-4925-83FD-D43EF414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9B8-5499-4B42-AFEE-ADDD3137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007A-3829-4013-A9C8-77BC402F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0E6-18F3-4D95-8410-360014F8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EB5-E05B-48EF-9C66-3DEC43EB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EF80-737B-4FAF-A973-E154AEC57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24360" y="5589720"/>
            <a:ext cx="488952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ц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. др Јована Јоксимовић Ј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28060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68360" y="1773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ДУЛ 3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И СПОРТСКЕ ФАРМАЦИЈЕ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24000" y="2924280"/>
            <a:ext cx="8281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наставна јединица (једанаес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РГОГЕНА СРЕДСТВА КАО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ПЛЕМЕНТИ У СПОРТУ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изиолошки значај суплементације натријум-хидроген карбонатом/бикарбона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ш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полаж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рамбе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ханизам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речи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пори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Н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ступ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ре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нзив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изичких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јањ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ре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нзив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купљањ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кта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рас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селос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д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Н шт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ктор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станк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м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да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кв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ферск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стема чи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карбона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главно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лаз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азм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лу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цептор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тјона п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могућава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л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одоник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ађ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ћел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ормал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центрациј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карбонат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кстраћелијској течности 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25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mol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в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центрациј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5,3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mol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0,3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тријум-хидроген карбона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тријум-хидроген карбонат/бикарбонати у спор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*дозирање и ергогени ефекти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з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lang="vi-VN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року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разит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бав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етњ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д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дутос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учни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јареје, болове и грчев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бух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карбона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и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лик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псул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оде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товра ил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лик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равеноз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је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зирање: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0,2-0,3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lang="vi-VN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60-12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изичке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страживања су показала да се доказани ергогени ефека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lang="vi-VN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гледа у побољшању спортских перформанси типа трчања и поготово интервалних спринт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акође, показано је д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lang="vi-VN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 умањује перцепцију умора и време до појаве исцрпље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зиологија креатин-фосфата -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P (Creatine Phosph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-фосфат је доступан ћелијама и веома брзо учествује у производњ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TP-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рачунато је да постоји око 10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 ATP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 и око 12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 CP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 у телу, највише у мишић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TP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P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фосфаге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-фосфат се разлаже и ослобађа фосфате и енергију, која се користи за поновну продукциј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P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ј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P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 поновно направљен тако што се додаје фосфа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P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 (аденозин-дифосфат) у процесу фосфорил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зим који контролише разградњу креатин-фосфата назива с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креатин-кин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нергетски значај фосфагеног 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сфагени систем функционише у присуству или без присуства кисеоник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пошто није зависан од кисеоника у литератури се наводи да је систем анаероб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ком првих 5 секунди вежбања, без обзира на његов интензитет, искључиво се користи систе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A TP–C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нцентрације ATP-а трају 1 – 3 секунде, а CP потпомаже додатних 5 до 8 секун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мбиновано, ATP–CP се може одржати од 3 до 15 секунди и управо у том периоду је највећи потенцијал у испољавању максималне снаг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он периода искоришћења залиха фосфагеног система, тело мора да настави да користи остале системе, то јест да тражи друге изворе енерг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нерген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шић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ли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нин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денозинтрифосф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лобађ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тпуштају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сфат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тва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денозиндифосф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–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Д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аби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во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интензивније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ероб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аболич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с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виј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7-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к. Р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вар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фосф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рио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5-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ш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вар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т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ликолиз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3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љ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ра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почи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ероб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вар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ханиз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сидатив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сфорил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6836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Дијаграм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мишићног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rcRect l="39016" t="27190" r="33316" b="32456"/>
          <a:stretch/>
        </p:blipFill>
        <p:spPr>
          <a:xfrm>
            <a:off x="1763640" y="1773360"/>
            <a:ext cx="5761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4920" y="1197000"/>
            <a:ext cx="8209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Креатин као ергогено сред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начај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јави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И 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арсело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1992. го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продаваниј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на тржиш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личит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5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продаваниј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The London Times reported (August 7 1992) that Linford  Christie, the 100 meter Gold Medalist trained with creatine  before the 1992 Olympic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nd Bodybuilding Monthly reported  that Sally Gunnell, the 400 meter Gold Medalist, also  trained with  creat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 London Times also reported that Colin Jackson, the champion  British 110-meter hurdler, just began taking creatine right before the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lthough he did not win the gold medal at the Olympics, he soon beat the Olympic Gold Medalist, Mark McCoy,  on several occas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y were using a technique called "creatine loading“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26920" y="3716280"/>
            <a:ext cx="7705800" cy="2808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6283440" cy="3823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1260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јчешћ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итањ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реатин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нтерн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bject 7"/>
          <p:cNvSpPr/>
          <p:nvPr/>
        </p:nvSpPr>
        <p:spPr>
          <a:xfrm>
            <a:off x="468360" y="1341360"/>
            <a:ext cx="736128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7320" bIns="0" anchor="t">
            <a:spAutoFit/>
          </a:bodyPr>
          <a:p>
            <a:pPr marL="3556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s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Does Creatine 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y Does Creatine 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o Should Use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Much Creatine Should I T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es Creatine Help You Build Musc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es Creatine Help You Lose F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Load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And Why To Load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Cycle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es Creatine Make You Retain Wa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Much Water To Drink While Using Crea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s The Best Type Of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Creatine Saf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es Creatine Cause Cramp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Creatine Safe For Teenag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Creatine Safe For Wom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C:\Users\Vladimir Zivkovic\Desktop\image_skuMT2320202_largeImage_X_450_white.jpg"/>
          <p:cNvPicPr/>
          <p:nvPr/>
        </p:nvPicPr>
        <p:blipFill>
          <a:blip r:embed="rId1"/>
          <a:stretch/>
        </p:blipFill>
        <p:spPr>
          <a:xfrm>
            <a:off x="5076720" y="2349360"/>
            <a:ext cx="300996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новна својства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род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стој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личина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келет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јететск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доге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нтез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и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сел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ржа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ари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р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и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лак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обичаје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с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збеђ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не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гетеријанац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е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аз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доге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извод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пу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мени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хра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ог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време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нтез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доге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ржа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сфо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чеш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~20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таболизам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гин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лиц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ион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(уз присуство ензима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креатин синтаз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есто синтезе 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убре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т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нкреа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келет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вор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с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шће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глав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келет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(94-95%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тат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з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убре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т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ез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сти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,5%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→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креатин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rcRect l="36799" t="48844" r="26122" b="23597"/>
          <a:stretch/>
        </p:blipFill>
        <p:spPr>
          <a:xfrm>
            <a:off x="1835280" y="4005360"/>
            <a:ext cx="4608360" cy="1925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539640" y="59500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Calibri"/>
              </a:rPr>
              <a:t>Креатинин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- според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дук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реатин фосф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ористи се у процени величине гломерулске филтр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РГОГЕНА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опште одлике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Ергогена средства су супстанце које спортисти користе како би побољшали своје перформансе (физичке и психичк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ећина ергогених средстава представља елемент тренинга или исхране и нису забрањени за употребу у спор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ргогена средства за које је научним истраживањима показано да могу побољшати спортске перформансе, када се користе по одређеном протоколу у специфичној ситуацији, спортисти могу користи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о су средства која припадају групи А дијететских суплемената (најчешће коришћени креатин и кофеи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ункција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ject 15"/>
          <p:cNvSpPr/>
          <p:nvPr/>
        </p:nvSpPr>
        <p:spPr>
          <a:xfrm>
            <a:off x="2771640" y="1989000"/>
            <a:ext cx="3654720" cy="403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ject 18"/>
          <p:cNvSpPr/>
          <p:nvPr/>
        </p:nvSpPr>
        <p:spPr>
          <a:xfrm>
            <a:off x="3276720" y="4653000"/>
            <a:ext cx="647640" cy="792000"/>
          </a:xfrm>
          <a:custGeom>
            <a:avLst/>
            <a:gdLst>
              <a:gd name="textAreaLeft" fmla="*/ 0 w 647640"/>
              <a:gd name="textAreaRight" fmla="*/ 648000 w 647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574675" h="792479">
                <a:moveTo>
                  <a:pt x="0" y="396087"/>
                </a:moveTo>
                <a:lnTo>
                  <a:pt x="2623" y="342342"/>
                </a:lnTo>
                <a:lnTo>
                  <a:pt x="10264" y="290794"/>
                </a:lnTo>
                <a:lnTo>
                  <a:pt x="22581" y="241915"/>
                </a:lnTo>
                <a:lnTo>
                  <a:pt x="39231" y="196178"/>
                </a:lnTo>
                <a:lnTo>
                  <a:pt x="59872" y="154053"/>
                </a:lnTo>
                <a:lnTo>
                  <a:pt x="84161" y="116014"/>
                </a:lnTo>
                <a:lnTo>
                  <a:pt x="111756" y="82532"/>
                </a:lnTo>
                <a:lnTo>
                  <a:pt x="142315" y="54079"/>
                </a:lnTo>
                <a:lnTo>
                  <a:pt x="175495" y="31127"/>
                </a:lnTo>
                <a:lnTo>
                  <a:pt x="210953" y="14149"/>
                </a:lnTo>
                <a:lnTo>
                  <a:pt x="248348" y="3615"/>
                </a:lnTo>
                <a:lnTo>
                  <a:pt x="287337" y="0"/>
                </a:lnTo>
                <a:lnTo>
                  <a:pt x="326328" y="3615"/>
                </a:lnTo>
                <a:lnTo>
                  <a:pt x="363725" y="14149"/>
                </a:lnTo>
                <a:lnTo>
                  <a:pt x="399185" y="31127"/>
                </a:lnTo>
                <a:lnTo>
                  <a:pt x="432365" y="54079"/>
                </a:lnTo>
                <a:lnTo>
                  <a:pt x="462923" y="82532"/>
                </a:lnTo>
                <a:lnTo>
                  <a:pt x="490518" y="116014"/>
                </a:lnTo>
                <a:lnTo>
                  <a:pt x="514806" y="154053"/>
                </a:lnTo>
                <a:lnTo>
                  <a:pt x="535446" y="196178"/>
                </a:lnTo>
                <a:lnTo>
                  <a:pt x="552095" y="241915"/>
                </a:lnTo>
                <a:lnTo>
                  <a:pt x="564411" y="290794"/>
                </a:lnTo>
                <a:lnTo>
                  <a:pt x="572052" y="342342"/>
                </a:lnTo>
                <a:lnTo>
                  <a:pt x="574675" y="396087"/>
                </a:lnTo>
                <a:lnTo>
                  <a:pt x="572052" y="449832"/>
                </a:lnTo>
                <a:lnTo>
                  <a:pt x="564411" y="501380"/>
                </a:lnTo>
                <a:lnTo>
                  <a:pt x="552095" y="550259"/>
                </a:lnTo>
                <a:lnTo>
                  <a:pt x="535446" y="595996"/>
                </a:lnTo>
                <a:lnTo>
                  <a:pt x="514806" y="638121"/>
                </a:lnTo>
                <a:lnTo>
                  <a:pt x="490518" y="676160"/>
                </a:lnTo>
                <a:lnTo>
                  <a:pt x="462923" y="709642"/>
                </a:lnTo>
                <a:lnTo>
                  <a:pt x="432365" y="738095"/>
                </a:lnTo>
                <a:lnTo>
                  <a:pt x="399185" y="761047"/>
                </a:lnTo>
                <a:lnTo>
                  <a:pt x="363725" y="778025"/>
                </a:lnTo>
                <a:lnTo>
                  <a:pt x="326328" y="788559"/>
                </a:lnTo>
                <a:lnTo>
                  <a:pt x="287337" y="792175"/>
                </a:lnTo>
                <a:lnTo>
                  <a:pt x="248348" y="788559"/>
                </a:lnTo>
                <a:lnTo>
                  <a:pt x="210953" y="778025"/>
                </a:lnTo>
                <a:lnTo>
                  <a:pt x="175495" y="761047"/>
                </a:lnTo>
                <a:lnTo>
                  <a:pt x="142315" y="738095"/>
                </a:lnTo>
                <a:lnTo>
                  <a:pt x="111756" y="709642"/>
                </a:lnTo>
                <a:lnTo>
                  <a:pt x="84161" y="676160"/>
                </a:lnTo>
                <a:lnTo>
                  <a:pt x="59872" y="638121"/>
                </a:lnTo>
                <a:lnTo>
                  <a:pt x="39231" y="595996"/>
                </a:lnTo>
                <a:lnTo>
                  <a:pt x="22581" y="550259"/>
                </a:lnTo>
                <a:lnTo>
                  <a:pt x="10264" y="501380"/>
                </a:lnTo>
                <a:lnTo>
                  <a:pt x="2623" y="449832"/>
                </a:lnTo>
                <a:lnTo>
                  <a:pt x="0" y="396087"/>
                </a:lnTo>
                <a:close/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rcRect l="38462" t="25221" r="25569" b="68878"/>
          <a:stretch/>
        </p:blipFill>
        <p:spPr>
          <a:xfrm>
            <a:off x="2268360" y="6093000"/>
            <a:ext cx="4680000" cy="431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8"/>
          <p:cNvSpPr/>
          <p:nvPr/>
        </p:nvSpPr>
        <p:spPr>
          <a:xfrm>
            <a:off x="2268360" y="6093000"/>
            <a:ext cx="475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38760" y="2997360"/>
            <a:ext cx="21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Регенарација АТП-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то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физичке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9CA77D81.m4a" descr=""/>
          <p:cNvPicPr/>
          <p:nvPr/>
        </p:nvPicPr>
        <p:blipFill>
          <a:blip r:embed="rId4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85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56000" y="620640"/>
          <a:ext cx="3956040" cy="6067440"/>
        </p:xfrm>
        <a:graphic>
          <a:graphicData uri="http://schemas.openxmlformats.org/drawingml/2006/table">
            <a:tbl>
              <a:tblPr/>
              <a:tblGrid>
                <a:gridCol w="757080"/>
                <a:gridCol w="1515960"/>
                <a:gridCol w="1683000"/>
              </a:tblGrid>
              <a:tr h="406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ати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атини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g/k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rowSpan="6">
                  <a:txBody>
                    <a:bodyPr lIns="0" rIns="0" tIns="41400" bIns="0" anchor="t">
                      <a:noAutofit/>
                    </a:bodyPr>
                    <a:p>
                      <a:pPr marL="27468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мп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ра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ал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арин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,5-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ос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rowSpan="13">
                  <a:txBody>
                    <a:bodyPr lIns="0" rIns="0" tIns="41760" bIns="0" anchor="t">
                      <a:noAutofit/>
                    </a:bodyPr>
                    <a:p>
                      <a:pPr marL="21924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ве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ви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9-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у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ш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-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л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-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-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-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-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-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маћи з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,0-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в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-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37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-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rowSpan="3">
                  <a:txBody>
                    <a:bodyPr lIns="0" rIns="0" tIns="41760" bIns="0" anchor="t">
                      <a:noAutofit/>
                    </a:bodyPr>
                    <a:p>
                      <a:pPr marL="21420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-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илет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,0-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ћурет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58" name="Rectangle 6"/>
          <p:cNvSpPr/>
          <p:nvPr/>
        </p:nvSpPr>
        <p:spPr>
          <a:xfrm>
            <a:off x="2855520" y="18900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утритивни извори креа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1844640"/>
            <a:ext cx="25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с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мар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во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абе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ff0000"/>
                </a:solidFill>
                <a:latin typeface="Calibri"/>
              </a:rPr>
              <a:t>Пресно ме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лек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леч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извод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00 mg/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русниц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20 mg/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Straight Arrow Connector 8"/>
          <p:cNvCxnSpPr/>
          <p:nvPr/>
        </p:nvCxnSpPr>
        <p:spPr>
          <a:xfrm>
            <a:off x="1115640" y="2349000"/>
            <a:ext cx="1152720" cy="108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потреба кр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ина у терапијске сврх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поларна псих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м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ркинсонова бол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антингтонова хоре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рофија мрежњач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иотрофична латерална склер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уматоидни артрити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иперхолестеролем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не дистроф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ject 10"/>
          <p:cNvSpPr/>
          <p:nvPr/>
        </p:nvSpPr>
        <p:spPr>
          <a:xfrm>
            <a:off x="5580000" y="2924280"/>
            <a:ext cx="2852640" cy="2219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ргогена дејства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наг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перформансе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код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појединачних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поновљених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спринт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нтез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ликог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пацит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изич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леран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lnSpc>
                <a:spcPct val="100000"/>
              </a:lnSpc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0000"/>
                </a:solidFill>
                <a:latin typeface="Arial"/>
                <a:ea typeface="Arial"/>
              </a:rPr>
              <a:t>Доња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1800" spc="-1" strike="noStrike">
                <a:solidFill>
                  <a:srgbClr val="ff0000"/>
                </a:solidFill>
                <a:latin typeface="Arial"/>
                <a:ea typeface="Arial"/>
              </a:rPr>
              <a:t>старосна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1800" spc="-1" strike="noStrike">
                <a:solidFill>
                  <a:srgbClr val="ff0000"/>
                </a:solidFill>
                <a:latin typeface="Arial"/>
                <a:ea typeface="Arial"/>
              </a:rPr>
              <a:t>граница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18 </a:t>
            </a:r>
            <a:r>
              <a:rPr b="1" i="1" lang="sr-CS" sz="1800" spc="-1" strike="noStrike">
                <a:solidFill>
                  <a:srgbClr val="ff0000"/>
                </a:solidFill>
                <a:latin typeface="Arial"/>
                <a:ea typeface="Arial"/>
              </a:rPr>
              <a:t>год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Дозирање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јчешћи протоко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аза пуњ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 г или 0,3 г/кг телесне масе дневно, подељено у 4 дозе, у току 5 до 7 д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аза одржа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г – 5 г или 0,03 г/кг телесне масе током  суплементационог пери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требно је између 21 и 28 дана да се  депои попуне и да се постигн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ергогени ефекат креат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172564DB.m4a" descr=""/>
          <p:cNvPicPr/>
          <p:nvPr/>
        </p:nvPicPr>
        <p:blipFill>
          <a:blip r:embed="rId2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5989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Комбинована примена креатина са другим суплемен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Угљен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хидра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Протеи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Витамин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минера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libri"/>
                <a:ea typeface="Arial"/>
              </a:rPr>
              <a:t>β-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хидрокс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  <a:ea typeface="Arial"/>
              </a:rPr>
              <a:t>β-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метилбутира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libri"/>
                <a:ea typeface="Arial"/>
              </a:rPr>
              <a:t>Β –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алан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libri"/>
                <a:ea typeface="Arial"/>
              </a:rPr>
              <a:t>α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липо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нск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кисел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ts val="2373"/>
              </a:lnSpc>
              <a:spcBef>
                <a:spcPts val="388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пуњав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по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дат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бољшан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25 %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товрем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гље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идр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те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кре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сул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ts val="2373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бин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року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пуња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по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каза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ољ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фек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рформан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88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8080" indent="-28296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Облици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.  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Анхидров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.  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Сол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1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ирув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цит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л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осф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гнезију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ро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Kre Alkalyn-</a:t>
            </a:r>
            <a:r>
              <a:rPr b="1" i="1" lang="sr-CS" sz="1800" spc="-1" strike="noStrike">
                <a:solidFill>
                  <a:srgbClr val="ff0000"/>
                </a:solidFill>
                <a:latin typeface="Calibri"/>
              </a:rPr>
              <a:t>креат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874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3.  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Естр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1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тилест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lnSpc>
                <a:spcPts val="2387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лукон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874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4.  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Ефервесцентн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таблет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2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цит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нохидра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имунск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лин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карбона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5"/>
          <p:cNvSpPr/>
          <p:nvPr/>
        </p:nvSpPr>
        <p:spPr>
          <a:xfrm rot="16200000">
            <a:off x="4367880" y="2264040"/>
            <a:ext cx="3289320" cy="216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армаколошке разлике између појединих облика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1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о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табил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нохидр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дата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гље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идр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њихов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табил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енцијал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днос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о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нохидра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ворљиво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положиво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мањи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енцијал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жеље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астроинтестиналн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ак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па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опход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мплетн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 vivo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армацеутс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о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тврдил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енцијал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дно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енут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ступ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ор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Kre-alkalyn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је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10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пута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снажнији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од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обичног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креатина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врдњ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азира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јав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извођач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уферова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нверту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и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вор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ређењ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нохидра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еградац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ње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с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ље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нижење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сп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.5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ње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0520" indent="-28008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5280" y="475920"/>
            <a:ext cx="835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јства креатина на организам – експериментални пода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2-12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едељ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ису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уочен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ежељен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дејства, ду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реа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укуп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во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рганизм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а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ризи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дехидр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зној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манј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е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рча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фреквенц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каза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и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бјектив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ећа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м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нир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соко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љашњо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мперату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уплемента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реати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ио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6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есец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тариј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соб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ма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значај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већ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ишић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здржљив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наг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ишић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а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мање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ject 6"/>
          <p:cNvSpPr/>
          <p:nvPr/>
        </p:nvSpPr>
        <p:spPr>
          <a:xfrm>
            <a:off x="6372360" y="1268280"/>
            <a:ext cx="312480" cy="474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26BAF966.m4a" descr=""/>
          <p:cNvPicPr/>
          <p:nvPr/>
        </p:nvPicPr>
        <p:blipFill>
          <a:blip r:embed="rId2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5628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95280" y="475920"/>
            <a:ext cx="835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жељена дејства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тенцијални нежељени ефек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пруриту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неугодан укус у уст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мачни грче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мучн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конфузија, сед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кратак д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ментална функција (↑ или ↓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же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главобољ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нерв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поспа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депрес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вртоглав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неподношење топло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грозн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аритм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ед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дубока венска тромб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5400" indent="-27432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bject 12"/>
          <p:cNvSpPr/>
          <p:nvPr/>
        </p:nvSpPr>
        <p:spPr>
          <a:xfrm>
            <a:off x="4788000" y="2924280"/>
            <a:ext cx="2409840" cy="204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rcRect l="20287" t="17347" r="35800" b="6250"/>
          <a:stretch/>
        </p:blipFill>
        <p:spPr>
          <a:xfrm>
            <a:off x="1332000" y="189000"/>
            <a:ext cx="6656400" cy="6480000"/>
          </a:xfrm>
          <a:prstGeom prst="rect">
            <a:avLst/>
          </a:prstGeom>
          <a:ln w="0">
            <a:noFill/>
          </a:ln>
        </p:spPr>
      </p:pic>
      <p:sp>
        <p:nvSpPr>
          <p:cNvPr id="54" name="Oval 8"/>
          <p:cNvSpPr/>
          <p:nvPr/>
        </p:nvSpPr>
        <p:spPr>
          <a:xfrm>
            <a:off x="1258920" y="907920"/>
            <a:ext cx="936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182520" y="1700280"/>
            <a:ext cx="121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ргог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11"/>
          <p:cNvCxnSpPr/>
          <p:nvPr/>
        </p:nvCxnSpPr>
        <p:spPr>
          <a:xfrm flipV="1">
            <a:off x="899640" y="1341000"/>
            <a:ext cx="577080" cy="4327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7" name="Rectangle 17"/>
          <p:cNvSpPr/>
          <p:nvPr/>
        </p:nvSpPr>
        <p:spPr>
          <a:xfrm>
            <a:off x="6084720" y="501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6084720" y="558972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6084720" y="6165720"/>
            <a:ext cx="107964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3564000" y="981000"/>
            <a:ext cx="2520720" cy="792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084720" y="981000"/>
            <a:ext cx="1800360" cy="216072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3564000" y="3141720"/>
            <a:ext cx="2520720" cy="10792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6084720" y="3141720"/>
            <a:ext cx="1800360" cy="187164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3564000" y="5013360"/>
            <a:ext cx="2520720" cy="1511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РГОГЕНА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најважнији представници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Од свих ергогених средстава до сада потврђен ергогени ефекат испољавај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Натријум-хидроген карбо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Ð¡ÑÐ¾Ð´Ð½Ð° ÑÐ»Ð¸ÐºÐ°"/>
          <p:cNvPicPr/>
          <p:nvPr/>
        </p:nvPicPr>
        <p:blipFill>
          <a:blip r:embed="rId2"/>
          <a:srcRect l="26806" t="30247" r="19582" b="0"/>
          <a:stretch/>
        </p:blipFill>
        <p:spPr>
          <a:xfrm>
            <a:off x="7236000" y="4508640"/>
            <a:ext cx="1439640" cy="199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Ð ÐµÐ·ÑÐ»ÑÐ°Ñ ÑÐ»Ð¸ÐºÐ° Ð·Ð° sodium carbonate sport"/>
          <p:cNvPicPr/>
          <p:nvPr/>
        </p:nvPicPr>
        <p:blipFill>
          <a:blip r:embed="rId3"/>
          <a:stretch/>
        </p:blipFill>
        <p:spPr>
          <a:xfrm>
            <a:off x="5724360" y="4437000"/>
            <a:ext cx="1609920" cy="21430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" descr="Ð ÐµÐ·ÑÐ»ÑÐ°Ñ ÑÐ»Ð¸ÐºÐ° Ð·Ð° creatine sport"/>
          <p:cNvPicPr/>
          <p:nvPr/>
        </p:nvPicPr>
        <p:blipFill>
          <a:blip r:embed="rId4"/>
          <a:stretch/>
        </p:blipFill>
        <p:spPr>
          <a:xfrm>
            <a:off x="3851280" y="4437000"/>
            <a:ext cx="20829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8360" y="105264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Општ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лик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Кофе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ришће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сихоакти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ред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ве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 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ф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кау, ч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чокола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аз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нергетск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пиц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утритив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Њег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зн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едук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м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буд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след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ст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о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оизво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могућав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зумаци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фе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ргоге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ото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100%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рал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зумира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фе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 апсорбује 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авља се 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5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ну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зум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као ергогено/допинг средств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ргогени ефекат доказан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1. стимулише коришћ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а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зво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чим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азград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шић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ликог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2. редукује перцепци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м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кључе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шић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лак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Повучен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лист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2004.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го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лист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WADA 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15 mcg/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шољиц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каф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= 100mg = 1.5 mcg/ml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ур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ијететс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пл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kofein-molekul"/>
          <p:cNvPicPr/>
          <p:nvPr/>
        </p:nvPicPr>
        <p:blipFill>
          <a:blip r:embed="rId2"/>
          <a:stretch/>
        </p:blipFill>
        <p:spPr>
          <a:xfrm>
            <a:off x="6012000" y="4722840"/>
            <a:ext cx="27255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ергогени ефект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м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аж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казан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реме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мор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еликом бро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абораторијс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ото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Продуж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бмаксимал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&gt; 90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Тренинг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иског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нтензитета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(20-60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Краткотрај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прамаксимал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1-5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5.     Ефека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портови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здржљивост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тан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рен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спортов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6.     Не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фект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портови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наг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Ð¡ÑÐ¾Ð´Ð½Ð° ÑÐ»Ð¸ÐºÐ°"/>
          <p:cNvPicPr/>
          <p:nvPr/>
        </p:nvPicPr>
        <p:blipFill>
          <a:blip r:embed="rId2"/>
          <a:srcRect l="26806" t="30247" r="19582" b="0"/>
          <a:stretch/>
        </p:blipFill>
        <p:spPr>
          <a:xfrm>
            <a:off x="7093080" y="1844640"/>
            <a:ext cx="15271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нежељени ефекти и дозирањ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сом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рв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ахикарди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кок 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астроинтестиналне тего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зирањ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-3mg/kg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елесн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ас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60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 тренинг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акмич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Ð¡ÑÐ¾Ð´Ð½Ð° ÑÐ»Ð¸ÐºÐ°"/>
          <p:cNvPicPr/>
          <p:nvPr/>
        </p:nvPicPr>
        <p:blipFill>
          <a:blip r:embed="rId2"/>
          <a:srcRect l="26806" t="30247" r="19582" b="0"/>
          <a:stretch/>
        </p:blipFill>
        <p:spPr>
          <a:xfrm>
            <a:off x="6804000" y="2852640"/>
            <a:ext cx="15271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вои кофеина у одређеним намирниц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600200"/>
          <a:ext cx="8435880" cy="4079880"/>
        </p:xfrm>
        <a:graphic>
          <a:graphicData uri="http://schemas.openxmlformats.org/drawingml/2006/table">
            <a:tbl>
              <a:tblPr/>
              <a:tblGrid>
                <a:gridCol w="6284880"/>
                <a:gridCol w="21510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оизвод/намир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личина 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ољ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рск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ф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сиц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а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ф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ољ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о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мен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oca Col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мен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ed Bu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ољ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пл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околад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е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пи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g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околадни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ли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рно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ф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рно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окола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g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вог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ожђа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лечној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околади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g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рн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околад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8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6:32:31Z</dcterms:created>
  <dc:creator>Ivan Srejovic</dc:creator>
  <dc:description/>
  <dc:language>en-US</dc:language>
  <cp:lastModifiedBy>ХХХ</cp:lastModifiedBy>
  <dcterms:modified xsi:type="dcterms:W3CDTF">2020-09-28T12:50:46Z</dcterms:modified>
  <cp:revision>246</cp:revision>
  <dc:subject/>
  <dc:title>ФИЗИОЛОГИЈА КРВИ</dc:title>
</cp:coreProperties>
</file>