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B01-5678-4A7B-944C-31BBC8E1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4A6-D3B8-4810-89B6-C566511D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496-74A3-45E9-A4DA-F7B2D34D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68B-57BC-4273-8F68-57257470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D79-653A-4643-9571-BE4D0474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B65-088C-4566-B3C8-C529C70D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8A4-F858-4D4C-BC96-36898EF1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849-6595-42DF-B4D1-259B1044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9E1-17A3-4384-A691-A61FA34C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43B-D555-41C9-AD6F-E249390A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988-99EF-4990-A15C-204B4CE3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630-F332-4DAC-9425-5D1ED343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0325-FA08-4416-AC86-8F71C7451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240948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на ергогених средстава код спортист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цифичности употребе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гљених хидрата ка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ргогених средстав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ски индек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8920" y="764640"/>
            <a:ext cx="871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едан од најзначајнијих појмова везаних за метаболизам угљених хидрата јесте гликемијски индек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икемијски индекс је број који показује како угљени хидрати из хране утичу на ниво глукозе (шећера) у крв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дефиницији, глукоза има гликемијски индекс 100, следствено томе, остала храна има нижи индек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Ð ÐµÐ·ÑÐ»ÑÐ°Ñ ÑÐ»Ð¸ÐºÐ° Ð·Ð° glycemic index"/>
          <p:cNvPicPr/>
          <p:nvPr/>
        </p:nvPicPr>
        <p:blipFill>
          <a:blip r:embed="rId1"/>
          <a:stretch/>
        </p:blipFill>
        <p:spPr>
          <a:xfrm>
            <a:off x="1908000" y="2637000"/>
            <a:ext cx="59724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ски индек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267920"/>
            <a:ext cx="871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оријски гледано, низак гликемијски индекс обезбеђује лагано отпуштање глукозе у крв, док намирнице с високим гликемијским индексом то раде брж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штина је у томе да пре тренинга треба узимати намирнице ниског гликемијског индекса, док у првом сату након физичке активности треба надокнадити енергију узимањем намирница средњег и високог гликемијског индекса и наставити њихово уношење током следећег сата, чиме се обнављају залихе гликог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Ð ÐµÐ·ÑÐ»ÑÐ°Ñ ÑÐ»Ð¸ÐºÐ° Ð·Ð° glycemic index"/>
          <p:cNvPicPr/>
          <p:nvPr/>
        </p:nvPicPr>
        <p:blipFill>
          <a:blip r:embed="rId1"/>
          <a:stretch/>
        </p:blipFill>
        <p:spPr>
          <a:xfrm>
            <a:off x="2982960" y="3860640"/>
            <a:ext cx="3078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чај угљених хидрата у спортској исхр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гљени хидрати представљају основу исхране спортиста, јер директно учествују у депоновању гликогена, који се користи као извор енергије током такмичења и трен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Ð ÐµÐ·ÑÐ»ÑÐ°Ñ ÑÐ»Ð¸ÐºÐ° Ð·Ð° ugljeni hidrati kod sportista"/>
          <p:cNvPicPr/>
          <p:nvPr/>
        </p:nvPicPr>
        <p:blipFill>
          <a:blip r:embed="rId1"/>
          <a:stretch/>
        </p:blipFill>
        <p:spPr>
          <a:xfrm>
            <a:off x="2843280" y="2997360"/>
            <a:ext cx="34146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дела угљених хидра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600" y="191592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гљени хидрати, према хемијској структури, деле се на три велике груп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сахариде (глукоз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алактоза, фруктоза, сорбитол, манитол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лигосахариде (сахароза, лактоза, малтоза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сахариде (скроб, амилоза, амилопектин, пектин и тако даљ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ела угљених хидр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0600" y="242064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осахариди су прости шећери који се не могу хидролизовати на простије шећ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лигосахариди се састоје од 2 (дисахариди) до 9 моносахарида, а полисахариди садрже већи број моносахар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икоген припада полисахаридима и представља депо глукозе у мишићима и јет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иког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126792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ликоген припада полисахаридима и представља депо глукозе у мишићима и јет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ишен унос угљених хидрата омогућава повећање залиха мишићног гликогена, до нивоа гликогенске синте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поновање мишићног гликогена је највеће током првог сата после вежбања или такмиче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2340000" y="3789360"/>
            <a:ext cx="43718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икоген у мишић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8920" y="1413000"/>
            <a:ext cx="871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то је рани унос угљених хидрата после напорног вежбања изузетно важан, јер омогућава непосредан извор супстрата за почетак ефикасног опоравка мишићне ћелије и за боље искоришћење периода повећане синтезе гликог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Ð ÐµÐ·ÑÐ»ÑÐ°Ñ ÑÐ»Ð¸ÐºÐ° Ð·Ð° glikogen in muscle"/>
          <p:cNvPicPr/>
          <p:nvPr/>
        </p:nvPicPr>
        <p:blipFill>
          <a:blip r:embed="rId1"/>
          <a:stretch/>
        </p:blipFill>
        <p:spPr>
          <a:xfrm>
            <a:off x="1979640" y="3429000"/>
            <a:ext cx="52671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гљени хидр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8920" y="1125360"/>
            <a:ext cx="8712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 се да 1 g угљених хидрата ослобађа 4 kcal, а за спортисте је важна њихова подела на просте (моносахариди) и сложене (олигосахариди и полисахариди) угљене хидра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и угљени хидрати брзо подижу ниво глукозе у крви и спортиста треба да их узима када брзо жели да врати потрошену енергију, на пример, после трен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Ð ÐµÐ·ÑÐ»ÑÐ°Ñ ÑÐ»Ð¸ÐºÐ° Ð·Ð° ugljeni hidrati kod sportista"/>
          <p:cNvPicPr/>
          <p:nvPr/>
        </p:nvPicPr>
        <p:blipFill>
          <a:blip r:embed="rId1"/>
          <a:srcRect l="0" t="15117" r="0" b="0"/>
          <a:stretch/>
        </p:blipFill>
        <p:spPr>
          <a:xfrm>
            <a:off x="2268360" y="3500280"/>
            <a:ext cx="47786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сти угљени хидр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06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о због наглог скока, а онда последично и пада глукозе у крви, просте угљене хидрате (слаткиши, разни газирани напици, чоколада, производи од рафинисаног шећера, прозводи од белог брашна и тако даље) треба избегавати пре тренинга или такмиче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Њихово конзумирање непосредно пре такмичења може да изазове хипогликемију, то јест пад шећера у крви и губитак неопходне енерг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ложени угљени хидр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06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руге стране, сложени угљени хидрати који потичу од интегралних житарица, махунарки, коштуњавих плодова и поврћа разлажу се постепено, па се тако њихов садржај шећера лагано ослобађа у крвоток, што условљава лагано лучење инсули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ста може да их узима најмање сат времена пре такмичења, како би имао довољно енергије за целу утакмицу или ме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Vladimir Jakovljevic</cp:lastModifiedBy>
  <dcterms:modified xsi:type="dcterms:W3CDTF">2018-11-21T09:10:17Z</dcterms:modified>
  <cp:revision>67</cp:revision>
  <dc:subject/>
  <dc:title>Демијелинизационе болести Мијастенија гравис</dc:title>
</cp:coreProperties>
</file>